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4.jpeg" ContentType="image/jpeg"/>
  <Override PartName="/ppt/media/camera.wav" ContentType="audio/x-wav"/>
  <Override PartName="/ppt/media/oceanwaves.wav" ContentType="audio/x-wav"/>
  <Override PartName="/ppt/media/image6.png" ContentType="image/png"/>
  <Override PartName="/ppt/media/image5.gif" ContentType="image/gif"/>
  <Override PartName="/ppt/media/image19.jpeg" ContentType="image/jpeg"/>
  <Override PartName="/ppt/media/airport.wav" ContentType="audio/x-wav"/>
  <Override PartName="/ppt/media/image7.wmf" ContentType="image/x-wmf"/>
  <Override PartName="/ppt/media/image11.jpeg" ContentType="image/jpeg"/>
  <Override PartName="/ppt/media/image9.jpeg" ContentType="image/jpeg"/>
  <Override PartName="/ppt/media/whoosh.wav" ContentType="audio/x-wav"/>
  <Override PartName="/ppt/media/image8.jpeg" ContentType="image/jpeg"/>
  <Override PartName="/ppt/media/image23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kooka%20sound.wav" ContentType="audio/x-wav"/>
  <Override PartName="/ppt/media/image18.gif" ContentType="image/gif"/>
  <Override PartName="/ppt/media/applause.wav" ContentType="audio/x-wav"/>
  <Override PartName="/ppt/media/image20.png" ContentType="image/png"/>
  <Override PartName="/ppt/media/image21.png" ContentType="image/pn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8B6-E4C3-4F24-98AF-931D3E47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B37-F4D6-4543-BFF5-D2223FB1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80F-9677-46D6-8B04-416717BD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BDB-BBB5-4619-9B88-5885BCF8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C1D7-9642-4709-A9CC-9B3509AB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5B78-96E8-42AB-88C5-BD0DE1F4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834B-7BB8-483F-9E39-E8BB65E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0CF6-75B8-4FCA-B145-96ABBE99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CA1A-8446-41B4-B4FB-2DECD5D0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02A3-9AFC-4CB0-B3AA-678B8453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85E6-5D3A-460F-AD15-F1C76DE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810-37BF-405D-A93B-D19E4D15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5EE3-2A7F-49A0-B3D4-854CCE0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F5A0-27D4-4555-A9DA-5F01013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8959-7830-4984-A404-2BC6059E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437A-250E-439B-A684-EDB4DC9C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57D6-FF7F-442F-8017-CB8D9204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7D7-9E0F-41D4-9DF7-EB288C8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870-D43A-4AEA-9792-886E8864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35C-441E-4388-B765-7EDAB66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BB7-B2D0-4C54-B0C7-6A63DFA5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982-3173-4834-9069-FBDFB6A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F0A-F6E0-4F2B-A54C-ADB6064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9D4-653E-4E67-AF01-EBF895F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E1FC-A804-4F3F-85FF-951891AD5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0CA7-780A-43B9-8BAB-1D1360157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oceanwaves.wav" TargetMode="External"/><Relationship Id="rId3" Type="http://schemas.microsoft.com/office/2007/relationships/media" Target="file:///tmp/home/.config/libreoffice/4/user/gallery/oceanwaves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irport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file:///tmp/home/.config/libreoffice/4/user/gallery/didgmusic.wav" TargetMode="External"/><Relationship Id="rId4" Type="http://schemas.microsoft.com/office/2007/relationships/media" Target="file:///tmp/home/.config/libreoffice/4/user/gallery/didgmusic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file:///tmp/home/.config/libreoffice/4/user/gallery/kooka%20sound.wav" TargetMode="External"/><Relationship Id="rId4" Type="http://schemas.microsoft.com/office/2007/relationships/media" Target="file:///tmp/home/.config/libreoffice/4/user/gallery/kooka%20sound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oceanwav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kooka%20sound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605400" cy="3468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143000" y="38088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ustralia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0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-1440"/>
            <a:ext cx="624852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Australia Rules Football is a popular sport in Australia.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909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Boomera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51055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omerang returns to you after you thr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040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37836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anguag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638320"/>
            <a:ext cx="205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3716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e are some Australian word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195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nglish                 Austral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581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le B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267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267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95288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4952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2640" y="563868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f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56386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00960"/>
            <a:ext cx="62485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List two things on your paper that you have learned about Australia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What are 2 things that you would like to learn about Austral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62485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st one thing on your paper that you already know about Australia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158840"/>
            <a:ext cx="6248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irp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657760" cy="4057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666880" y="4386240"/>
            <a:ext cx="3592800" cy="247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5960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tives of Australi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3880" y="1542960"/>
            <a:ext cx="35434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 Black"/>
              </a:rPr>
              <a:t>Aborigin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1219320"/>
            <a:ext cx="7772400" cy="3276000"/>
            <a:chOff x="457200" y="1219320"/>
            <a:chExt cx="7772400" cy="3276000"/>
          </a:xfrm>
        </p:grpSpPr>
        <p:sp>
          <p:nvSpPr>
            <p:cNvPr id="98" name=""/>
            <p:cNvSpPr/>
            <p:nvPr/>
          </p:nvSpPr>
          <p:spPr>
            <a:xfrm>
              <a:off x="457200" y="1219320"/>
              <a:ext cx="4952880" cy="22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5f5f5f"/>
                </a:buClr>
                <a:buSzPct val="65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Aborigines were the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5f5f5f"/>
                </a:buClr>
                <a:buSzPct val="65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first people to discov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buClr>
                  <a:srgbClr val="5f5f5f"/>
                </a:buClr>
                <a:buSzPct val="65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Australia.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105520" y="1371600"/>
              <a:ext cx="3124080" cy="312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4572000"/>
            <a:ext cx="4724280" cy="182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48769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origines play the didgerid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504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4546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nimals of Australi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1600200"/>
            <a:ext cx="4241880" cy="2184480"/>
            <a:chOff x="609480" y="1600200"/>
            <a:chExt cx="4241880" cy="21844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600200" y="1600200"/>
              <a:ext cx="325116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09480" y="1981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85800" y="4572000"/>
            <a:ext cx="4267080" cy="1841400"/>
            <a:chOff x="685800" y="4572000"/>
            <a:chExt cx="4267080" cy="18414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85800" y="4572000"/>
              <a:ext cx="2539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352680" y="5181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cod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400800" y="2286000"/>
            <a:ext cx="2313000" cy="4114800"/>
            <a:chOff x="6400800" y="2286000"/>
            <a:chExt cx="2313000" cy="411480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400800" y="2895480"/>
              <a:ext cx="23130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476760" y="22860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angaro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ceanwav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ore Anima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905120" y="4286160"/>
            <a:ext cx="4876560" cy="2571840"/>
            <a:chOff x="1905120" y="4286160"/>
            <a:chExt cx="4876560" cy="25718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905120" y="4286160"/>
              <a:ext cx="32004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181480" y="5638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omb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76720" y="1447920"/>
            <a:ext cx="4651200" cy="3126600"/>
            <a:chOff x="3276720" y="1447920"/>
            <a:chExt cx="4651200" cy="312660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3276720" y="1447920"/>
              <a:ext cx="465120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91320" y="4114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n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8600" y="1143000"/>
            <a:ext cx="2971800" cy="3479760"/>
            <a:chOff x="228600" y="1143000"/>
            <a:chExt cx="2971800" cy="347976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228600" y="1143000"/>
              <a:ext cx="262728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371600" y="3352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okabur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ooka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240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ites of Australi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5800" y="1523880"/>
            <a:ext cx="7974000" cy="3729240"/>
            <a:chOff x="685800" y="1523880"/>
            <a:chExt cx="7974000" cy="372924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685800" y="1523880"/>
              <a:ext cx="3251160" cy="22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4800600" y="2666880"/>
              <a:ext cx="3859200" cy="25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5680" y="1752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reat Barrier Re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04920" y="3962520"/>
            <a:ext cx="7391160" cy="2517120"/>
            <a:chOff x="304920" y="3962520"/>
            <a:chExt cx="7391160" cy="251712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304920" y="3962520"/>
              <a:ext cx="3733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191120" y="601992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Opera Ho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2:27Z</dcterms:created>
  <dc:creator>Instructional</dc:creator>
  <dc:description/>
  <dc:language>en-US</dc:language>
  <cp:lastModifiedBy> </cp:lastModifiedBy>
  <dcterms:modified xsi:type="dcterms:W3CDTF">2009-07-08T22:39:07Z</dcterms:modified>
  <cp:revision>23</cp:revision>
  <dc:subject/>
  <dc:title>AUSTRALIA</dc:title>
</cp:coreProperties>
</file>